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2787-673E-4408-92F0-60164716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9591-FE75-4A55-BB48-9C63DA2E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1FE-A80A-4F10-AB00-D6FFA6AD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FA5-C490-4BA7-ADFF-2E265155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2FFD-DE28-4AAE-B7DF-72FA8B6F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73BB-D955-4866-AC9B-A4E4ADBF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52AE-690A-4AE0-BC5A-D7420FA3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6BB0-0C98-439B-936F-A50A3AA5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3D62-E5B2-45E0-B926-D3C859A6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119A-773F-419F-BF89-BB8866F5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9FA8-4811-45B8-B207-6119E9D0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1AE-03CC-4AD4-BEFF-7298CFD0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E47C-F4C1-49FB-9BE6-D17B426F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DBBF-C5FE-4174-A804-7A3CD3B7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4DAD-CD49-443F-8C05-317A4F52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B782-89CB-46F9-A3DD-7BAC66C8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3FE2-BCF3-4AB3-933D-FEA590FA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31B-DE66-458F-99EA-46F5017B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1E6-2E56-46B0-8F00-7254C9EB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4B1-3676-4E3C-B6AF-77EE0533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686-1BF9-4E77-A956-D2499AA0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076-1D06-4773-8884-E8880BE7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387-4DAF-405C-9A70-15209F0E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84F-53D3-42D5-85FF-A9D76C9A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1500-6513-415F-A444-7D4C8EBCFD0F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47FE-6BB6-4AE5-BBBF-6978C317DB82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Times New Roman"/>
              </a:rPr>
              <a:t>TIETOTEKNIIKAN KURSSIT 20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05160" y="2227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ut tietotekniikan kurs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totekniikan alkeiskur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totekniikan peruskur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totekniikan jatkokur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-englannin peruskur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mattiosaston mikrotukikur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itysgrafiikkaohjelman käytt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42640" y="2227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ietokoneen A-kor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ietotekniikan merkitys ja laitteist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Laitteen käyttö ja tiedon halli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ekstinkäsit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aulukkolask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Tietokantaohjelman käyttö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8T07:54:25Z</dcterms:created>
  <dc:creator>atk</dc:creator>
  <dc:description/>
  <dc:language>en-US</dc:language>
  <cp:lastModifiedBy>Kurssi</cp:lastModifiedBy>
  <dcterms:modified xsi:type="dcterms:W3CDTF">2003-02-17T11:14:41Z</dcterms:modified>
  <cp:revision>3</cp:revision>
  <dc:subject/>
  <dc:title>TIETOTEKNIIKAN KURSSIT 2001</dc:title>
</cp:coreProperties>
</file>